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D8851-FB4E-49B7-9249-E2CE152A0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B8F1F-6EED-483C-8A0A-CA8E9E0EC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780C1-6B7F-40F6-AA79-8C6B39888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4B552-2332-4D80-A78D-6D5997AA0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307011-7D78-469B-B40F-CFE1C01506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078A29-8BF9-4637-B9FC-434F74AF0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7DDB7-9A04-467E-BDA3-D25EF02B3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A2B44-9249-465D-9FC9-C3316F13B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C061D-775D-4809-951D-DA75EC4ED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ACE44-C76A-476C-9A44-827DF79E2E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6A2D2-356B-4D4B-B000-D2E7EBEA7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EF832-0855-448A-8251-4B44D9DDE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681C7-ECF9-48DB-A59F-F225A6061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90C2F-6308-4EAB-927F-0B0260BDE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9D784-38CA-4B68-907D-E025E9171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5053E6-438F-4421-98D8-9EB6FB0491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976961-9B5E-4614-B1B5-BF16D3885D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CA00B-63E5-43C6-A29E-A55A83886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0023A-0771-4282-827F-7A52EF227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87700-884E-41FD-9ABB-F0696D3A8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9D088-B676-4073-B8D5-D315A9857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1E3B2-ADC0-40ED-B0EE-CDD954251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EAE2A-1FE6-4263-8C96-53D211D74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4A244-28A1-4D4F-AA1F-DF980BDF4E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5D0F4-FC19-4E1F-9E9E-88CBC02CD7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A29FA-DE0A-4A94-8445-346E63D8E2F3}"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55640" y="-360"/>
            <a:ext cx="7772400" cy="5715000"/>
          </a:xfrm>
          <a:prstGeom prst="rect">
            <a:avLst/>
          </a:prstGeom>
          <a:noFill/>
          <a:ln w="0">
            <a:noFill/>
          </a:ln>
        </p:spPr>
        <p:txBody>
          <a:bodyPr lIns="92160" rIns="92160" tIns="46080" bIns="46080" anchor="t">
            <a:normAutofit/>
          </a:bodyPr>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rPr>
              <a:t>第七章</a:t>
            </a:r>
            <a:r>
              <a:rPr b="1" lang="en-US" sz="4000" spc="-1" strike="noStrike">
                <a:solidFill>
                  <a:srgbClr val="ffffcc"/>
                </a:solidFill>
                <a:latin typeface="Times New Roman"/>
              </a:rPr>
              <a:t>  </a:t>
            </a:r>
            <a:r>
              <a:rPr b="1" lang="zh-CN" sz="4000" spc="-1" strike="noStrike">
                <a:solidFill>
                  <a:srgbClr val="ffffcc"/>
                </a:solidFill>
                <a:latin typeface="Times New Roman"/>
              </a:rPr>
              <a:t>保险公司财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赔款准备金的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已报告尚未支付的赔款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已发生尚未报告的赔款准备金的计提。</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理赔费用准备金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保障基金</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成本费用和利润分配管理</a:t>
            </a:r>
            <a:endParaRPr b="0" lang="en-US" sz="3200" spc="-1" strike="noStrike">
              <a:solidFill>
                <a:srgbClr val="ffcc66"/>
              </a:solidFill>
              <a:latin typeface="Times New Roman"/>
            </a:endParaRPr>
          </a:p>
        </p:txBody>
      </p:sp>
      <p:sp>
        <p:nvSpPr>
          <p:cNvPr id="113" name=""/>
          <p:cNvSpPr txBox="1"/>
          <p:nvPr/>
        </p:nvSpPr>
        <p:spPr>
          <a:xfrm>
            <a:off x="684360" y="2133720"/>
            <a:ext cx="7772400" cy="42480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成本费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成本</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营业费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利润分配管理</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总额的计算公式为：</a:t>
            </a:r>
            <a:endParaRPr b="0" lang="en-US" sz="3200" spc="-1" strike="noStrike">
              <a:solidFill>
                <a:srgbClr val="ffffcc"/>
              </a:solidFill>
              <a:latin typeface="Times New Roman"/>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2600" spc="-1" strike="noStrike">
                <a:solidFill>
                  <a:srgbClr val="ffffcc"/>
                </a:solidFill>
                <a:latin typeface="楷体_GB2312"/>
                <a:ea typeface="楷体_GB2312"/>
              </a:rPr>
              <a:t>利润总额</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利润</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收入</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支出）</a:t>
            </a:r>
            <a:endParaRPr b="0" lang="en-US" sz="2600" spc="-1" strike="noStrike">
              <a:solidFill>
                <a:srgbClr val="ffffcc"/>
              </a:solidFill>
              <a:latin typeface="Times New Roman"/>
            </a:endParaRPr>
          </a:p>
          <a:p>
            <a:pPr marL="343080" indent="-343080">
              <a:lnSpc>
                <a:spcPct val="100000"/>
              </a:lnSpc>
              <a:spcBef>
                <a:spcPts val="64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7" name=""/>
          <p:cNvSpPr txBox="1"/>
          <p:nvPr/>
        </p:nvSpPr>
        <p:spPr>
          <a:xfrm>
            <a:off x="684360" y="24922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分配的次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提取法定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提取法定公益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提取总准备金</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提取任意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向投资者分配利润</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公司如果发生亏损，可以用以前年度提取的公积金弥补，也可以用以后年度实现的利润弥补。但是如果保险公司以前年度亏损未弥补的，不能提取上述四项内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报表</a:t>
            </a:r>
            <a:endParaRPr b="0" lang="en-US" sz="32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资产负债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资产负债表是总括反映保险公司在某一特定日期财务状况的会计报表。它是保险公司会计报表体系中最主要的一种报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资产负债表的基本结构是以会计平衡公式：</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所有者权益</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为理论基础的。资产负债表的格式主要有账户式和报告式两种。</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公司的利润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利润表是反映保险公司在一定时期内的经营成果及其形成情况的会计报表，它是保险会计报表体系中的一种重要报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7" name=""/>
          <p:cNvSpPr txBox="1"/>
          <p:nvPr/>
        </p:nvSpPr>
        <p:spPr>
          <a:xfrm>
            <a:off x="684360" y="2742840"/>
            <a:ext cx="7772400" cy="342252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作为保险公司经营业绩的综合反映和利润分配的主要依据</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是依照会计配比原则编制的。</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755640" y="274320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一节</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资产管理</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9"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的现金流量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现金流量是指保险公司现金和现金等价物的流入和流出。</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现金流量表作为一种动态报表，反映了保险公司在一定会计期间现金流入和现金流出的动态财务信息的会计报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利润分配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分配表是反映保险公司利润分配情况以及年末未分配利润结余情况的报表。</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Times New Roman"/>
                <a:ea typeface="楷体_GB2312"/>
              </a:rPr>
              <a:t>保险公司的利润分配表的主要项目有净利润、可供分配利润、可供投资者分配利润和未分配利润四项。</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财务稳定性分析</a:t>
            </a:r>
            <a:endParaRPr b="0" lang="en-US" sz="32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财务稳定性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稳定性是指保险公司所积累的保险基金是否能够足以履行可能发生的赔偿责任。也就是说，保险公司承保的业务实际发生赔款支出超过或不超过收入的净保费的可靠程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财务稳定性的度量</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36" name="Object 4"/>
          <p:cNvGraphicFramePr/>
          <p:nvPr/>
        </p:nvGraphicFramePr>
        <p:xfrm>
          <a:off x="1476360" y="3284640"/>
          <a:ext cx="5548320" cy="930240"/>
        </p:xfrm>
        <a:graphic>
          <a:graphicData uri="http://schemas.openxmlformats.org/presentationml/2006/ole">
            <p:oleObj r:id="rId1" spid="">
              <p:embed/>
              <p:pic>
                <p:nvPicPr>
                  <p:cNvPr id="137" name="Object 4" descr=""/>
                  <p:cNvPicPr/>
                  <p:nvPr/>
                </p:nvPicPr>
                <p:blipFill>
                  <a:blip r:embed="rId2">
                    <a:alphaModFix amt="80000"/>
                  </a:blip>
                  <a:stretch/>
                </p:blipFill>
                <p:spPr>
                  <a:xfrm>
                    <a:off x="1476360" y="3284640"/>
                    <a:ext cx="5548320" cy="93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11280" y="2205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财务稳定性指标的影响分析</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风险累积业务的财务稳定性分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不同保险金额业务的财务稳定性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投资风险对保险财务稳定性的影响</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907920"/>
            <a:ext cx="7772400" cy="404352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复习思考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未到期责任准备金</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保障基金</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未到期责任准备金的计提方法有哪些？</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我国《保险保障基金管理办法》对保险保障基金的计提做了哪些具体的规定？</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2" name=""/>
          <p:cNvSpPr txBox="1"/>
          <p:nvPr/>
        </p:nvSpPr>
        <p:spPr>
          <a:xfrm>
            <a:off x="539280" y="1267920"/>
            <a:ext cx="7844040" cy="397188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公司利润的确定和分配次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我国《保险公司会计制度》规定的财务报表有哪几种？它们之间存在什么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的财务稳定性包含哪两层含义？它是如何度量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影响保险公司财务稳定性的因素。</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4360" y="2421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Times New Roman"/>
                <a:ea typeface="楷体_GB2312"/>
              </a:rPr>
              <a:t>一、保险公司资产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资产按流动性分为流动资产、长期投资、固定资产和递延资产四大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5564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资产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保险公司资产负债的会计方程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保单持有者盈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单持有者盈余</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资产的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固定资产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固定资产的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固定资产的计价标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科学计提固定资产折旧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11280" y="2204640"/>
            <a:ext cx="7772400" cy="403236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流动资产管理</a:t>
            </a:r>
            <a:r>
              <a:rPr b="1" lang="en-US" sz="3200" spc="-1" strike="noStrike">
                <a:solidFill>
                  <a:srgbClr val="ffffcc"/>
                </a:solidFill>
                <a:latin typeface="楷体_GB2312"/>
                <a:ea typeface="楷体_GB2312"/>
              </a:rPr>
              <a:t> </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无形资产管理</a:t>
            </a:r>
            <a:endParaRPr b="0" lang="en-US" sz="3200" spc="-1" strike="noStrike">
              <a:solidFill>
                <a:srgbClr val="ffffcc"/>
              </a:solidFill>
              <a:latin typeface="Times New Roman"/>
            </a:endParaRPr>
          </a:p>
          <a:p>
            <a:pPr marL="343080" indent="-343080" algn="ctr">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负债管理</a:t>
            </a:r>
            <a:br>
              <a:rPr sz="3200"/>
            </a:br>
            <a:endParaRPr b="0" lang="en-US" sz="32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负债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负债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对保险公司负债的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负债管理就是对保险公司的各种准备金进行管理。准备金管理包括两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1" name=""/>
          <p:cNvSpPr txBox="1"/>
          <p:nvPr/>
        </p:nvSpPr>
        <p:spPr>
          <a:xfrm>
            <a:off x="684360" y="19890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选择合适的方法，准确计提各种准备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未到期责任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逐日计算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2" name="Object 4"/>
          <p:cNvGraphicFramePr/>
          <p:nvPr/>
        </p:nvGraphicFramePr>
        <p:xfrm>
          <a:off x="971640" y="4508640"/>
          <a:ext cx="7515000" cy="1233360"/>
        </p:xfrm>
        <a:graphic>
          <a:graphicData uri="http://schemas.openxmlformats.org/presentationml/2006/ole">
            <p:oleObj r:id="rId1" spid="">
              <p:embed/>
              <p:pic>
                <p:nvPicPr>
                  <p:cNvPr id="103" name="Object 4" descr=""/>
                  <p:cNvPicPr/>
                  <p:nvPr/>
                </p:nvPicPr>
                <p:blipFill>
                  <a:blip r:embed="rId2">
                    <a:alphaModFix amt="73000"/>
                  </a:blip>
                  <a:stretch/>
                </p:blipFill>
                <p:spPr>
                  <a:xfrm>
                    <a:off x="971640" y="4508640"/>
                    <a:ext cx="7515000" cy="123336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年平均估值法</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6" name="Object 2"/>
          <p:cNvGraphicFramePr/>
          <p:nvPr/>
        </p:nvGraphicFramePr>
        <p:xfrm>
          <a:off x="1476360" y="3284640"/>
          <a:ext cx="6173640" cy="461880"/>
        </p:xfrm>
        <a:graphic>
          <a:graphicData uri="http://schemas.openxmlformats.org/presentationml/2006/ole">
            <p:oleObj r:id="rId1" spid="">
              <p:embed/>
              <p:pic>
                <p:nvPicPr>
                  <p:cNvPr id="107" name="Object 2" descr=""/>
                  <p:cNvPicPr/>
                  <p:nvPr/>
                </p:nvPicPr>
                <p:blipFill>
                  <a:blip r:embed="rId2">
                    <a:alphaModFix amt="80000"/>
                  </a:blip>
                  <a:stretch/>
                </p:blipFill>
                <p:spPr>
                  <a:xfrm>
                    <a:off x="1476360" y="3284640"/>
                    <a:ext cx="6173640" cy="46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5:58:12Z</dcterms:modified>
  <cp:revision>55</cp:revision>
  <dc:subject/>
  <dc:title>没有幻灯片标题</dc:title>
</cp:coreProperties>
</file>